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BF7-6E44-49F7-A597-2A649E6F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0F4-7CF6-4B96-B1DB-5BF9D067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900C-D1E2-492F-AEAB-B8CE0CF7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DCCA-B1C2-427C-82A5-63AFC627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895-C106-4591-9B82-4A46F79F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1C6-43B3-4B84-98FF-4A730128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3C7-F0FF-4BEF-A413-ED60DCD7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9121-CC13-457E-909D-5D860DA4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EFF-CDE4-4836-8C26-F19085DF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CD1-AD6F-4B7D-A1CB-8F4A74A8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97F-4F45-40ED-AAD3-C1D48793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B3CF-4758-4AA2-916A-0EB24782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4230-31FD-438C-A557-914D37433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mous People Fri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. Mundorf’s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tober 17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rcRect l="0" t="0" r="0" b="42481"/>
          <a:stretch/>
        </p:blipFill>
        <p:spPr>
          <a:xfrm>
            <a:off x="304920" y="76320"/>
            <a:ext cx="8381880" cy="63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35816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Alvar Nunez Cabeza de Vac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657600" y="304920"/>
            <a:ext cx="5486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Wanted to travel and adventur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plor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____________ by a hurricane near present-day __________. He and three other members of the expedition survived. They traveled across the Southwest, eventually reaching ______________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esting Fac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ublished an account of his experiences, urging better ___________ of American _________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7897" t="37287" r="64041" b="31827"/>
          <a:stretch/>
        </p:blipFill>
        <p:spPr>
          <a:xfrm>
            <a:off x="152280" y="1371600"/>
            <a:ext cx="335304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rcRect l="0" t="6392" r="7897" b="62718"/>
          <a:stretch/>
        </p:blipFill>
        <p:spPr>
          <a:xfrm>
            <a:off x="304920" y="1371600"/>
            <a:ext cx="8448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121896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Juan Ponce de Leon fam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4"/>
          <p:cNvSpPr/>
          <p:nvPr/>
        </p:nvSpPr>
        <p:spPr>
          <a:xfrm>
            <a:off x="53352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le 4"/>
          <p:cNvSpPr/>
          <p:nvPr/>
        </p:nvSpPr>
        <p:spPr>
          <a:xfrm>
            <a:off x="228600" y="2286000"/>
            <a:ext cx="87631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Hernando de Soto fam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le 4"/>
          <p:cNvSpPr/>
          <p:nvPr/>
        </p:nvSpPr>
        <p:spPr>
          <a:xfrm>
            <a:off x="0" y="32004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Why is Francisco Vasquez de Coronado famou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le 4"/>
          <p:cNvSpPr/>
          <p:nvPr/>
        </p:nvSpPr>
        <p:spPr>
          <a:xfrm>
            <a:off x="228600" y="4245120"/>
            <a:ext cx="87631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Alvar Nunez Cabeza de Vaca fam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Famous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62320" y="1905120"/>
            <a:ext cx="4419360" cy="4038480"/>
          </a:xfrm>
          <a:prstGeom prst="rect">
            <a:avLst/>
          </a:prstGeom>
          <a:solidFill>
            <a:srgbClr val="ccec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panish Explor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an Ponce de Le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rnando de So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ancisco Vasquez de Coron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var Nunez Cabeza de Va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anish Explor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Textbook p. 108 – 10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nish Explorers came to North America looking for ____________ and for places they had heard stories ab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oped their discoveries would make them __________ and 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of the ___________ of the Spanish explorers was eas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_________ always find what they were _________ f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an Ponce de Le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657600" y="304920"/>
            <a:ext cx="5486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anted to find gold and a legendary ___________ of yout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plor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the first ________ to set foot in __________ in ____. Explored the Florida Co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esting Fac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Florida after the ____________ words for Easter, “Pascua de Florida” (Feast of Flowers), because it was the __________ season when he landed the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rcRect l="5086" t="37287" r="66846" b="33956"/>
          <a:stretch/>
        </p:blipFill>
        <p:spPr>
          <a:xfrm>
            <a:off x="228600" y="1371600"/>
            <a:ext cx="316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594320" cy="637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4952880" y="2057400"/>
            <a:ext cx="3867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ernando de So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tent Placeholder 3"/>
          <p:cNvSpPr/>
          <p:nvPr/>
        </p:nvSpPr>
        <p:spPr>
          <a:xfrm>
            <a:off x="3429000" y="152280"/>
            <a:ext cx="54864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al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nted ________ and 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plor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d a large army through the American _________, from present-day Florida to __________. Planned to _______ and colonize the reg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esting Fac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believe he and his all-volunteer army were the first ___________ to see the ____________ Riv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rcRect l="34567" t="37287" r="37372" b="33956"/>
          <a:stretch/>
        </p:blipFill>
        <p:spPr>
          <a:xfrm>
            <a:off x="152280" y="1523880"/>
            <a:ext cx="3105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957240" y="571680"/>
            <a:ext cx="7229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35816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Francisco Vasquez de Coronad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81280" y="304920"/>
            <a:ext cx="5486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anted to find ___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plor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dventurer, Coronado assembled a large expedition and traveled throughout the ___________and the ____________. He hoped to find some legendary cities of ___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esting Fac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of his men were the first Europeans to see the ___________and to live among the _________ India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rcRect l="64041" t="37287" r="7897" b="31827"/>
          <a:stretch/>
        </p:blipFill>
        <p:spPr>
          <a:xfrm>
            <a:off x="228600" y="1371600"/>
            <a:ext cx="3259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632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8:30:37Z</dcterms:created>
  <dc:creator>CCPS</dc:creator>
  <dc:description/>
  <dc:language>en-US</dc:language>
  <cp:lastModifiedBy>CCPS</cp:lastModifiedBy>
  <dcterms:modified xsi:type="dcterms:W3CDTF">2008-10-17T19:18:01Z</dcterms:modified>
  <cp:revision>32</cp:revision>
  <dc:subject/>
  <dc:title>Famous People Friday</dc:title>
</cp:coreProperties>
</file>